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495-F4CD-45AF-85B0-739C5DDD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36D-6E7A-49DA-B95F-B713292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318-19F2-485C-B9E6-A7D092A3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85B-5345-478C-A3A1-1677A1C2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BC3-560F-4D77-9AF4-CE43B761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87E-B893-4FCE-ADBE-B84BBE70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660-B869-40EF-8924-21C92D1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6B9-749B-4D57-A362-31281A1F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537-599E-40C8-A136-7B36E85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2A9-5EE4-47AC-B12E-216D9AB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3A0-E43D-4740-BF53-F57B504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55B-063D-403B-8A38-EA965FD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803-2EE7-4DE2-8D84-B0139753A1E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Mt. Pinatub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t. Pinatubo, June 1991 (The Philippin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t. Pinatubo had not erupted for over 600 year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s slopes had become fertile, well-cultivated paddy field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eople did not expect it to erup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n 1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June the mountain erupt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ments and predictions by scientists had meant that over 200,000 people had been evacuated by the time that the mountain erupt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ruption sent a huge cloud of gas and ash up into the atmosphe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rrential rain then caused much of the ash to be deposited back on the ground as m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over 600km in radius had ash falls from the volcano, with nearly 50cm falling near the mountain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terrifying of all we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har'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huge, speeding mudslides, formed by the ash and the torrential rain that swept down covering entire villages in a think layer of mud, often up to 10 feet dee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estroyed over 200,000 homes and covered 50,000 hectares of farm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a relatively small number of people were killed (350), the effects of the eruption were devasta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s such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la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ole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read quickly in the refugee camps set up to help the evacuee'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he next few years, heavy rains caused ash and dust from the eruption to create more devastating lah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5:15:57Z</dcterms:created>
  <dc:creator>Dell_02</dc:creator>
  <dc:description/>
  <dc:language>en-US</dc:language>
  <cp:lastModifiedBy>Dell_02</cp:lastModifiedBy>
  <dcterms:modified xsi:type="dcterms:W3CDTF">2011-01-26T05:20:29Z</dcterms:modified>
  <cp:revision>1</cp:revision>
  <dc:subject/>
  <dc:title>Mt. Pinatubo</dc:title>
</cp:coreProperties>
</file>